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E5E-BA43-486D-826D-5F65BE3E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8C2-DDEA-45A2-AB78-429917B8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E31-F66A-4AFF-889E-9E59907A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C83-C1A4-4D14-B989-37EA3FE2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07E0-88D5-4094-B3D7-BC7121DD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03EF-5063-4A35-9B57-090CE1F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1853-81A0-4EAC-9366-3D01D97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AF23-1C04-4942-8F9C-63178F21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5FFD-A7D0-41B4-A20F-2B245C7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6F5-B159-4FCB-9274-C29BABD9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14A0-3E40-435D-ADB5-0070A45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8F2-91B6-46F0-A539-89D32A0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8617-51C3-4566-8410-5541F1E4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972E-892D-4F24-B8A3-FF0545CA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13E0-9682-4829-8F0D-6F3CE207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D855-31A9-48C7-BCE3-D8BDF54F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2F14-1068-463B-916D-28292EBF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2C0-D862-4261-9CA0-1A34976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67F-43ED-4F1E-A338-D1067B51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61C-FB64-41F7-A067-AE3A8BE8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D4D-867F-49C2-86E0-4169C667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369-E915-485E-8377-F081F4F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CC7-FBA8-49A1-9364-5C0EEC0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6F9-47C9-4C88-8D5A-2468BEF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B99F-A355-422B-BF10-4DECE06EDD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D3D5-B3B8-4B76-B77D-FA5490BC7F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332000" y="1052640"/>
            <a:ext cx="67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modelli matematici                       entrano a scuo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908000" y="3933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imo Brandi – Anna Salvad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763640" y="440064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ipartimento di Matematica e Informatica, Università di Peru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871640" y="2349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&amp;R li prende per m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3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5360400">
            <a:off x="6731280" y="2412000"/>
            <a:ext cx="814680" cy="86652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10757400">
            <a:off x="6629400" y="48006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276720" y="5481720"/>
            <a:ext cx="31003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4: VALID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724360" y="3716280"/>
            <a:ext cx="295308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3"/>
          <p:cNvSpPr/>
          <p:nvPr/>
        </p:nvSpPr>
        <p:spPr>
          <a:xfrm rot="5360400">
            <a:off x="6731280" y="2412000"/>
            <a:ext cx="814680" cy="86652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 rot="10757400">
            <a:off x="6629400" y="48006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6"/>
          <p:cNvSpPr/>
          <p:nvPr/>
        </p:nvSpPr>
        <p:spPr>
          <a:xfrm rot="16178400">
            <a:off x="2083320" y="439344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124080" y="4651200"/>
            <a:ext cx="3276720" cy="703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 la soluzione trovata  non è soddisfacente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276720" y="5481720"/>
            <a:ext cx="31003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4: VALID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724360" y="3716280"/>
            <a:ext cx="295308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303640" y="2816280"/>
            <a:ext cx="63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Dinamica didat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1395360" y="243828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3"/>
          <p:cNvSpPr/>
          <p:nvPr/>
        </p:nvSpPr>
        <p:spPr>
          <a:xfrm rot="5360400">
            <a:off x="7874280" y="2435760"/>
            <a:ext cx="814680" cy="86652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 rot="10757400">
            <a:off x="7695720" y="561024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6178400">
            <a:off x="1369080" y="556020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871640" y="1233360"/>
            <a:ext cx="6085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Partendo da problemi reali                                      si introducono concetti e strum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871640" y="2816280"/>
            <a:ext cx="6085080" cy="1252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La valutazione del modello consente di perfezionare gli strumenti e riflettere sulla teoria 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908000" y="3753000"/>
            <a:ext cx="61167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Strumenti più potenti permettono di affrontare problemi più complessi 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843280" y="476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NAMICA DIDAT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908000" y="5373720"/>
            <a:ext cx="6085080" cy="1191240"/>
          </a:xfrm>
          <a:prstGeom prst="rect">
            <a:avLst/>
          </a:prstGeom>
          <a:solidFill>
            <a:srgbClr val="000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ome in un gioco a ping-pong                 il precorso formativo si evolve                in un’elica ascendente </a:t>
            </a:r>
            <a:r>
              <a:rPr b="1" lang="it-IT" sz="2400" spc="-1" strike="noStrike">
                <a:solidFill>
                  <a:srgbClr val="ffc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908000" y="4545000"/>
            <a:ext cx="61167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Problemi più complessi richiedono conoscenze ulteriori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1871640" y="2023920"/>
            <a:ext cx="6085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Nella costruzione e studio del modello                   si testano conoscenze e sviluppano abil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BL00347_"/>
          <p:cNvPicPr/>
          <p:nvPr/>
        </p:nvPicPr>
        <p:blipFill>
          <a:blip r:embed="rId1"/>
          <a:stretch/>
        </p:blipFill>
        <p:spPr>
          <a:xfrm>
            <a:off x="1332000" y="335772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4000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6" descr="BL00381_"/>
          <p:cNvPicPr/>
          <p:nvPr/>
        </p:nvPicPr>
        <p:blipFill>
          <a:blip r:embed="rId2"/>
          <a:stretch/>
        </p:blipFill>
        <p:spPr>
          <a:xfrm>
            <a:off x="4579920" y="189000"/>
            <a:ext cx="4600440" cy="25718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332000" y="6461280"/>
            <a:ext cx="3276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Didattica tradizion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751280" y="333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Educazione alla modellizz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9"/>
          <p:cNvSpPr/>
          <p:nvPr/>
        </p:nvSpPr>
        <p:spPr>
          <a:xfrm rot="18578400">
            <a:off x="4593600" y="3724560"/>
            <a:ext cx="2232000" cy="73332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CasellaDiTesto 30"/>
          <p:cNvSpPr/>
          <p:nvPr/>
        </p:nvSpPr>
        <p:spPr>
          <a:xfrm>
            <a:off x="1403280" y="116064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ue modalità didattiche a confro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68360" y="692280"/>
          <a:ext cx="8675640" cy="78408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23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68360" y="692280"/>
          <a:ext cx="8675640" cy="172872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re conoscenze e abilità da sfruttarle in ambito scolastico  (es. esame di sta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Utilizzare conoscenze e abilità matematiche in vari contesti anche non scolas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26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468360" y="692280"/>
          <a:ext cx="8675640" cy="221616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re conoscenze e abilità da sfruttarle in ambito scolastico  (es. esame di sta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Utilizzare conoscenze e abilità matematiche in vari contesti anche non scolas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zioni frontali                     ruolo passivo dei ragazz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Approccio laboratoriale      ruolo attivo degli stud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468360" y="692280"/>
          <a:ext cx="8675640" cy="270504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re conoscenze e abilità da sfruttarle in ambito scolastico  (es. esame di sta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Utilizzare conoscenze e abilità matematiche in vari contesti anche non scolas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zioni frontali                     ruolo passivo dei ragazz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Approccio laboratoriale      ruolo attivo degli stud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ercizi ripetiti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blematiche dalla vita re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68360" y="692280"/>
          <a:ext cx="8675640" cy="319248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re conoscenze e abilità da sfruttarle in ambito scolastico  (es. esame di sta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Utilizzare conoscenze e abilità matematiche in vari contesti anche non scolas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zioni frontali                     ruolo passivo dei ragazz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Approccio laboratoriale      ruolo attivo degli stud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ercizi ripetiti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blematiche dalla vita re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ri di tes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ferimenti bibliograf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Giornali, TV, internet, esperienza diret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35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368360" y="1449360"/>
            <a:ext cx="7021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ematica&amp;Realtà                           promuo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dellizz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atematica       come                                        motore di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novazi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idat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468360" y="692280"/>
          <a:ext cx="8675640" cy="367956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re conoscenze e abilità da sfruttarle in ambito scolastico  (es. esame di sta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Utilizzare conoscenze e abilità matematiche in vari contesti anche non scolas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zioni frontali                     ruolo passivo dei ragazz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Approccio laboratoriale      ruolo attivo degli stud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ercizi ripetiti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blematiche dalla vita re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ri di tes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ferimenti bibliograf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Giornali, TV, internet, esperienza diret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utile e/o pericolo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uolo della tecnolog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ndament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38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68360" y="692280"/>
          <a:ext cx="8675640" cy="441144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re conoscenze e abilità da sfruttarle in ambito scolastico  (es. esame di sta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Utilizzare conoscenze e abilità matematiche in vari contesti anche non scolas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zioni frontali                     ruolo passivo dei ragazz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Approccio laboratoriale      ruolo attivo degli stud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ercizi ripetiti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blematiche dalla vita re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ri di tes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ferimenti bibliograf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Giornali, TV, internet, esperienza diret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utile e/o pericolo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uolo della tecnolog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ndament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 autoreferenzi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che collegamento solo con la fis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azione con le altre discip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te interdisciplinarietà            (discipline scientifiche o tecniche e non sol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41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68360" y="692280"/>
          <a:ext cx="8675640" cy="5873760"/>
        </p:xfrm>
        <a:graphic>
          <a:graphicData uri="http://schemas.openxmlformats.org/drawingml/2006/table">
            <a:tbl>
              <a:tblPr/>
              <a:tblGrid>
                <a:gridCol w="3282840"/>
                <a:gridCol w="2136960"/>
                <a:gridCol w="3255840"/>
              </a:tblGrid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o tradiz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posta M&amp;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ire conosc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mare competen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re conoscenze e abilità da sfruttarle in ambito scolastico  (es. esame di sta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iettivo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Utilizzare conoscenze e abilità matematiche in vari contesti anche non scolas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zioni frontali                     ruolo passivo dei ragazz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insegn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Approccio laboratoriale      ruolo attivo degli stud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ercizi ripetiti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odologie di appr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Problematiche dalla vita re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ri di tes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ferimenti bibliograf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Giornali, TV, internet, esperienza diret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utile e/o pericolo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uolo della tecnolog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ndament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 autoreferenzi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che collegamento solo con la fis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azione con le altre discip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Forte interdisciplinarietà            (discipline scientifiche o tecniche e non sol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gomenti separati (es. algebra, geometria, … )  svolti in modo sequenziale  (es. equazioni di I grado, di II grado, riconducibili a eq. dii II grado, 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ut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Linee guida portanti e percorsi trasversali che evolvono ad elica ascendente fra realtà e matema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La </a:t>
                      </a:r>
                      <a:r>
                        <a:rPr b="1" i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continuità</a:t>
                      </a:r>
                      <a:r>
                        <a:rPr b="1" lang="it-IT" sz="1600" spc="-1" strike="noStrike">
                          <a:solidFill>
                            <a:srgbClr val="0d0dff"/>
                          </a:solidFill>
                          <a:latin typeface="Arial"/>
                          <a:ea typeface="Times New Roman"/>
                        </a:rPr>
                        <a:t> didattica è raccoman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244" name="Picture 4" descr="BL00347_"/>
          <p:cNvPicPr/>
          <p:nvPr/>
        </p:nvPicPr>
        <p:blipFill>
          <a:blip r:embed="rId1"/>
          <a:stretch/>
        </p:blipFill>
        <p:spPr>
          <a:xfrm>
            <a:off x="539640" y="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BL00381_"/>
          <p:cNvPicPr/>
          <p:nvPr/>
        </p:nvPicPr>
        <p:blipFill>
          <a:blip r:embed="rId2"/>
          <a:stretch/>
        </p:blipFill>
        <p:spPr>
          <a:xfrm>
            <a:off x="7405560" y="44280"/>
            <a:ext cx="17384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9"/>
          <p:cNvSpPr/>
          <p:nvPr/>
        </p:nvSpPr>
        <p:spPr>
          <a:xfrm>
            <a:off x="1584360" y="245736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ateriale disponib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libro"/>
          <p:cNvPicPr/>
          <p:nvPr/>
        </p:nvPicPr>
        <p:blipFill>
          <a:blip r:embed="rId1"/>
          <a:stretch/>
        </p:blipFill>
        <p:spPr>
          <a:xfrm>
            <a:off x="1219320" y="152280"/>
            <a:ext cx="3786120" cy="63248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5105520" y="304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bbiamo raccolto una sfida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257800" y="1403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’ possibile introdurre ai modelli  matematici con strumenti element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334120" y="423864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Riavvicinare alla matematica … chi si sente indifferente al sentore scienti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257800" y="32162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 nutriamo una speranza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1835280" y="2060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150336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1503360"/>
            <a:ext cx="497052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500720" y="333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ercorsi  in continu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38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555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7" descr=""/>
          <p:cNvPicPr/>
          <p:nvPr/>
        </p:nvPicPr>
        <p:blipFill>
          <a:blip r:embed="rId2"/>
          <a:stretch/>
        </p:blipFill>
        <p:spPr>
          <a:xfrm>
            <a:off x="2087640" y="2003400"/>
            <a:ext cx="3924360" cy="6178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9243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1835280" y="2060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150336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1503360"/>
            <a:ext cx="497052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1150920" y="0"/>
            <a:ext cx="4968720" cy="7031160"/>
          </a:xfrm>
          <a:prstGeom prst="rect">
            <a:avLst/>
          </a:prstGeom>
          <a:ln w="0">
            <a:noFill/>
          </a:ln>
        </p:spPr>
      </p:pic>
      <p:sp>
        <p:nvSpPr>
          <p:cNvPr id="263" name="CasellaDiTesto 9"/>
          <p:cNvSpPr/>
          <p:nvPr/>
        </p:nvSpPr>
        <p:spPr>
          <a:xfrm>
            <a:off x="6167520" y="2023920"/>
            <a:ext cx="246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Conoscien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e compete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atemat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per l’Univers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7" descr="image476"/>
          <p:cNvPicPr/>
          <p:nvPr/>
        </p:nvPicPr>
        <p:blipFill>
          <a:blip r:embed="rId1"/>
          <a:stretch/>
        </p:blipFill>
        <p:spPr>
          <a:xfrm>
            <a:off x="1042920" y="0"/>
            <a:ext cx="3768840" cy="5330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image477"/>
          <p:cNvPicPr/>
          <p:nvPr/>
        </p:nvPicPr>
        <p:blipFill>
          <a:blip r:embed="rId2"/>
          <a:stretch/>
        </p:blipFill>
        <p:spPr>
          <a:xfrm rot="632400">
            <a:off x="4716360" y="1268280"/>
            <a:ext cx="3768840" cy="5330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mage478"/>
          <p:cNvPicPr/>
          <p:nvPr/>
        </p:nvPicPr>
        <p:blipFill>
          <a:blip r:embed="rId3"/>
          <a:stretch/>
        </p:blipFill>
        <p:spPr>
          <a:xfrm rot="20392800">
            <a:off x="3348000" y="1526760"/>
            <a:ext cx="3768840" cy="53308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"/>
          <p:cNvSpPr/>
          <p:nvPr/>
        </p:nvSpPr>
        <p:spPr>
          <a:xfrm>
            <a:off x="5940360" y="225360"/>
            <a:ext cx="2951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Dossier M&amp;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2700360" y="0"/>
            <a:ext cx="5184000" cy="5328360"/>
            <a:chOff x="2700360" y="0"/>
            <a:chExt cx="5184000" cy="5328360"/>
          </a:xfrm>
        </p:grpSpPr>
        <p:grpSp>
          <p:nvGrpSpPr>
            <p:cNvPr id="273" name="Group 4"/>
            <p:cNvGrpSpPr/>
            <p:nvPr/>
          </p:nvGrpSpPr>
          <p:grpSpPr>
            <a:xfrm>
              <a:off x="2700360" y="0"/>
              <a:ext cx="5184000" cy="5328360"/>
              <a:chOff x="2700360" y="0"/>
              <a:chExt cx="5184000" cy="5328360"/>
            </a:xfrm>
          </p:grpSpPr>
          <p:pic>
            <p:nvPicPr>
              <p:cNvPr id="274" name="Picture 5" descr="copertina"/>
              <p:cNvPicPr/>
              <p:nvPr/>
            </p:nvPicPr>
            <p:blipFill>
              <a:blip r:embed="rId1"/>
              <a:stretch/>
            </p:blipFill>
            <p:spPr>
              <a:xfrm>
                <a:off x="2700360" y="0"/>
                <a:ext cx="5184000" cy="53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WordArt 6"/>
              <p:cNvSpPr txBox="1"/>
              <p:nvPr/>
            </p:nvSpPr>
            <p:spPr>
              <a:xfrm>
                <a:off x="3420000" y="739440"/>
                <a:ext cx="3688920" cy="37839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b3a3a"/>
                    </a:solidFill>
                    <a:latin typeface="Verdana"/>
                  </a:rPr>
                  <a:t>Matematica &amp; Realtà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b3a3a"/>
                  </a:solidFill>
                  <a:latin typeface="Verdana"/>
                  <a:ea typeface="Verdana"/>
                </a:endParaRPr>
              </a:p>
            </p:txBody>
          </p:sp>
        </p:grpSp>
        <p:pic>
          <p:nvPicPr>
            <p:cNvPr id="276" name="Picture 7" descr="logo_mr"/>
            <p:cNvPicPr/>
            <p:nvPr/>
          </p:nvPicPr>
          <p:blipFill>
            <a:blip r:embed="rId2"/>
            <a:stretch/>
          </p:blipFill>
          <p:spPr>
            <a:xfrm>
              <a:off x="5967000" y="2770200"/>
              <a:ext cx="1160280" cy="86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WordArt 8"/>
            <p:cNvSpPr txBox="1"/>
            <p:nvPr/>
          </p:nvSpPr>
          <p:spPr>
            <a:xfrm>
              <a:off x="2966040" y="5060160"/>
              <a:ext cx="114912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440">
                    <a:solidFill>
                      <a:srgbClr val="000000"/>
                    </a:solidFill>
                    <a:miter/>
                  </a:ln>
                  <a:solidFill>
                    <a:srgbClr val="cb3a3a"/>
                  </a:solidFill>
                  <a:latin typeface="Times New Roman"/>
                </a:rPr>
                <a:t>Vignetta di Luigi Aluffi</a:t>
              </a:r>
              <a:endParaRPr b="0" lang="en-US" sz="800" spc="1" strike="noStrike">
                <a:ln w="1440">
                  <a:solidFill>
                    <a:srgbClr val="000000"/>
                  </a:solidFill>
                  <a:miter/>
                </a:ln>
                <a:solidFill>
                  <a:srgbClr val="cb3a3a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WordArt 11"/>
          <p:cNvSpPr txBox="1"/>
          <p:nvPr/>
        </p:nvSpPr>
        <p:spPr>
          <a:xfrm>
            <a:off x="4162320" y="4573440"/>
            <a:ext cx="2210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440">
                  <a:solidFill>
                    <a:srgbClr val="000000"/>
                  </a:solidFill>
                  <a:miter/>
                </a:ln>
                <a:solidFill>
                  <a:srgbClr val="cb3a3a"/>
                </a:solidFill>
                <a:latin typeface="Verdana"/>
              </a:rPr>
              <a:t>Raccolta Multimediale</a:t>
            </a:r>
            <a:endParaRPr b="0" lang="en-US" sz="1600" spc="1" strike="noStrike">
              <a:ln w="1440">
                <a:solidFill>
                  <a:srgbClr val="000000"/>
                </a:solidFill>
                <a:miter/>
              </a:ln>
              <a:solidFill>
                <a:srgbClr val="cb3a3a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440">
                  <a:solidFill>
                    <a:srgbClr val="000000"/>
                  </a:solidFill>
                  <a:miter/>
                </a:ln>
                <a:solidFill>
                  <a:srgbClr val="cb3a3a"/>
                </a:solidFill>
                <a:latin typeface="Verdana"/>
              </a:rPr>
              <a:t>1999-2010</a:t>
            </a:r>
            <a:endParaRPr b="0" lang="en-US" sz="1600" spc="1" strike="noStrike">
              <a:ln w="1440">
                <a:solidFill>
                  <a:srgbClr val="000000"/>
                </a:solidFill>
                <a:miter/>
              </a:ln>
              <a:solidFill>
                <a:srgbClr val="cb3a3a"/>
              </a:solidFill>
              <a:latin typeface="Verdana"/>
              <a:ea typeface="Verdana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5148360" y="566100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Raccolta multimedi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150920" y="1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www.matematicaerealta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Immagine 7" descr="sito M&amp;R frontespizio.jpg"/>
          <p:cNvPicPr/>
          <p:nvPr/>
        </p:nvPicPr>
        <p:blipFill>
          <a:blip r:embed="rId1"/>
          <a:stretch/>
        </p:blipFill>
        <p:spPr>
          <a:xfrm>
            <a:off x="0" y="89208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16000" y="225360"/>
            <a:ext cx="8028000" cy="61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ematica&amp;Realt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Una proposta concreta, frutto di una sperimentazione sul campo di oltre 16 an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o spirito con cui si rivolge a Docenti e Studenti è quello di un 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approccio sperimentale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alla Matematica e propone una 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educazione alla modellizzazione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con strumenti elementar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La dinamica della modellizzazione che è lo strumento base dell’indagine scientifica e della produzione tecnologica, diventa motore di innovazione didattica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440000" y="184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ze chi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40000" y="184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ze chi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295280" y="2960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LOR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440000" y="184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ze chi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295280" y="2960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LORARE    COMPREND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440000" y="184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ze chi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295280" y="2960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LORARE    COMPRENDERE   COMUNI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447920" y="373392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440000" y="2637000"/>
            <a:ext cx="29718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ti e altre informazioni                             Vincoli … Classificazi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447920" y="373392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440000" y="2637000"/>
            <a:ext cx="29718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ti e altre informazioni                             Vincoli … Classificazi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1224000" y="1160640"/>
            <a:ext cx="3132000" cy="1403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1655640" y="1341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gamenti interdisciplinari (fisica e scien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4608360" y="1376280"/>
            <a:ext cx="3240360" cy="15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824360" y="1773360"/>
            <a:ext cx="27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stualizzazione    storico-filoso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4572000" y="3284640"/>
            <a:ext cx="2052720" cy="1187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1"/>
          <p:cNvSpPr/>
          <p:nvPr/>
        </p:nvSpPr>
        <p:spPr>
          <a:xfrm flipH="1" flipV="1">
            <a:off x="2376000" y="2276280"/>
            <a:ext cx="43020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2"/>
          <p:cNvSpPr/>
          <p:nvPr/>
        </p:nvSpPr>
        <p:spPr>
          <a:xfrm flipV="1">
            <a:off x="4356000" y="2636640"/>
            <a:ext cx="75564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4103640" y="3465360"/>
            <a:ext cx="828720" cy="35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3352680" y="2514600"/>
            <a:ext cx="51055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lezione delle variabili in gioco: incognite e parametri (loro universo)         Suddivisione in sotto-problemi       Relazioni 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funzio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ra dati ed incog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352680" y="2514600"/>
            <a:ext cx="51055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lezione delle variabili in gioco: incognite e parametri (loro universo)         Suddivisione in sotto-problemi       Relazioni 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funzio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ra dati ed incog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042920" y="1628640"/>
            <a:ext cx="20527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e intuitit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19280" y="2097000"/>
            <a:ext cx="241128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zi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fico-geome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719280" y="2852640"/>
            <a:ext cx="23763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zione simbolico-for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3352680" y="2514600"/>
            <a:ext cx="51055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lezione delle variabili in gioco: incognite e parametri (loro universo)         Suddivisione in sotto-problemi       Relazioni 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funzio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ra dati ed incog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628640"/>
            <a:ext cx="20527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e intuitit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719280" y="2097000"/>
            <a:ext cx="241128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zi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fico-geome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719280" y="2852640"/>
            <a:ext cx="23763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zione simbolico-for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14"/>
          <p:cNvSpPr/>
          <p:nvPr/>
        </p:nvSpPr>
        <p:spPr>
          <a:xfrm flipH="1">
            <a:off x="3492000" y="3753000"/>
            <a:ext cx="1079640" cy="11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7740720" y="3105000"/>
            <a:ext cx="647640" cy="1079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Oval 12"/>
          <p:cNvSpPr/>
          <p:nvPr/>
        </p:nvSpPr>
        <p:spPr>
          <a:xfrm>
            <a:off x="1979640" y="4508640"/>
            <a:ext cx="2052720" cy="1187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2158920" y="465300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struttur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6767640" y="3968640"/>
            <a:ext cx="2052360" cy="118764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6877080" y="4292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or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352680" y="2514600"/>
            <a:ext cx="51055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lezione delle variabili in gioco: incognite e parametri (loro universo)         Suddivisione in sotto-problemi       Relazioni 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funzio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ra dati ed incog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1042920" y="1628640"/>
            <a:ext cx="20527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e intuitit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719280" y="2097000"/>
            <a:ext cx="241128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zi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fico-geome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19280" y="2852640"/>
            <a:ext cx="23763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zione simbolico-for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6767640" y="3968640"/>
            <a:ext cx="2052360" cy="118764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Oval 12"/>
          <p:cNvSpPr/>
          <p:nvPr/>
        </p:nvSpPr>
        <p:spPr>
          <a:xfrm>
            <a:off x="1979640" y="4508640"/>
            <a:ext cx="2052720" cy="1187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2158920" y="465300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struttur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14"/>
          <p:cNvSpPr/>
          <p:nvPr/>
        </p:nvSpPr>
        <p:spPr>
          <a:xfrm flipH="1">
            <a:off x="3492000" y="3753000"/>
            <a:ext cx="1079640" cy="11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3419640" y="5265720"/>
            <a:ext cx="2936880" cy="13136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re strut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ndamentali (processi ricorsivi), analogie strutture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6877080" y="4292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or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6912000" y="4834080"/>
            <a:ext cx="1763640" cy="1618560"/>
          </a:xfrm>
          <a:prstGeom prst="rect">
            <a:avLst/>
          </a:prstGeom>
          <a:solidFill>
            <a:srgbClr val="ff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scenze aritmetiche, geometriche algebriche statis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7740720" y="3105000"/>
            <a:ext cx="647640" cy="1079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2303640" y="2816280"/>
            <a:ext cx="63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Dinamica della modellizz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3"/>
          <p:cNvSpPr/>
          <p:nvPr/>
        </p:nvSpPr>
        <p:spPr>
          <a:xfrm rot="5360400">
            <a:off x="6721920" y="23230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076720" y="3716280"/>
            <a:ext cx="381636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 con 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          DISCUS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447920" y="373392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040360" y="4545000"/>
            <a:ext cx="410364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istenza, unicità e localizzazione delle soluzioni                           calcolo esatto e/o approssim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AutoShape 3"/>
          <p:cNvSpPr/>
          <p:nvPr/>
        </p:nvSpPr>
        <p:spPr>
          <a:xfrm rot="5360400">
            <a:off x="6721920" y="23230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076720" y="3716280"/>
            <a:ext cx="381636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 con 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          DISCUS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447920" y="373392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5040360" y="4545000"/>
            <a:ext cx="410364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istenza, unicità e localizzazione delle soluzioni                           calcolo esatto e/o approssim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6659640" y="1881360"/>
            <a:ext cx="2052720" cy="8269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1116000" y="1844640"/>
            <a:ext cx="2052720" cy="1403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2268360" y="3968640"/>
            <a:ext cx="2051280" cy="9367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Oval 13"/>
          <p:cNvSpPr/>
          <p:nvPr/>
        </p:nvSpPr>
        <p:spPr>
          <a:xfrm>
            <a:off x="3564000" y="944640"/>
            <a:ext cx="2052720" cy="1079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6877080" y="20970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log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635280" y="1197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cn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2592360" y="4076640"/>
            <a:ext cx="21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à infoma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18"/>
          <p:cNvSpPr/>
          <p:nvPr/>
        </p:nvSpPr>
        <p:spPr>
          <a:xfrm flipH="1" flipV="1">
            <a:off x="4788000" y="1773000"/>
            <a:ext cx="1296720" cy="284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 flipV="1">
            <a:off x="7848720" y="2420640"/>
            <a:ext cx="287280" cy="22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20"/>
          <p:cNvSpPr/>
          <p:nvPr/>
        </p:nvSpPr>
        <p:spPr>
          <a:xfrm flipH="1" flipV="1">
            <a:off x="3742920" y="4795560"/>
            <a:ext cx="1368360" cy="64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21"/>
          <p:cNvSpPr/>
          <p:nvPr/>
        </p:nvSpPr>
        <p:spPr>
          <a:xfrm flipH="1" flipV="1">
            <a:off x="2700000" y="2852280"/>
            <a:ext cx="2663640" cy="16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6767640" y="3968640"/>
            <a:ext cx="2052360" cy="118764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6877080" y="4292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or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AutoShape 3"/>
          <p:cNvSpPr/>
          <p:nvPr/>
        </p:nvSpPr>
        <p:spPr>
          <a:xfrm rot="5360400">
            <a:off x="6721920" y="23230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5076720" y="3716280"/>
            <a:ext cx="381636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 con 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          DISCUS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1447920" y="373392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040360" y="4545000"/>
            <a:ext cx="410364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istenza, unicità e localizzazione delle soluzioni                           calcolo esatto e/o approssim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6659640" y="1881360"/>
            <a:ext cx="2052720" cy="8269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1116000" y="1844640"/>
            <a:ext cx="2052720" cy="1403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Oval 12"/>
          <p:cNvSpPr/>
          <p:nvPr/>
        </p:nvSpPr>
        <p:spPr>
          <a:xfrm>
            <a:off x="2268360" y="3968640"/>
            <a:ext cx="2051280" cy="9367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Oval 13"/>
          <p:cNvSpPr/>
          <p:nvPr/>
        </p:nvSpPr>
        <p:spPr>
          <a:xfrm>
            <a:off x="3564000" y="944640"/>
            <a:ext cx="2052720" cy="107928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1008000" y="4797360"/>
            <a:ext cx="4464000" cy="1618560"/>
          </a:xfrm>
          <a:prstGeom prst="rect">
            <a:avLst/>
          </a:prstGeom>
          <a:solidFill>
            <a:srgbClr val="ff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metria dinamica                        Foglio elettronico (elaborazione dati)                      Rappresentazione grafica                 Primi elementi di calcolo simbolico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18"/>
          <p:cNvSpPr/>
          <p:nvPr/>
        </p:nvSpPr>
        <p:spPr>
          <a:xfrm flipH="1" flipV="1">
            <a:off x="4788000" y="1773000"/>
            <a:ext cx="1296720" cy="284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19"/>
          <p:cNvSpPr/>
          <p:nvPr/>
        </p:nvSpPr>
        <p:spPr>
          <a:xfrm flipV="1">
            <a:off x="7848720" y="2420640"/>
            <a:ext cx="287280" cy="22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20"/>
          <p:cNvSpPr/>
          <p:nvPr/>
        </p:nvSpPr>
        <p:spPr>
          <a:xfrm flipH="1">
            <a:off x="5292720" y="5589720"/>
            <a:ext cx="79200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21"/>
          <p:cNvSpPr/>
          <p:nvPr/>
        </p:nvSpPr>
        <p:spPr>
          <a:xfrm flipH="1" flipV="1">
            <a:off x="2700000" y="2852280"/>
            <a:ext cx="2663640" cy="16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3527280" y="1736640"/>
            <a:ext cx="2124360" cy="13136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odi risolutivi tecniche e procedure di calcol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6659640" y="2673360"/>
            <a:ext cx="2124000" cy="703800"/>
          </a:xfrm>
          <a:prstGeom prst="rect">
            <a:avLst/>
          </a:prstGeom>
          <a:solidFill>
            <a:srgbClr val="ff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i induttivi e deduttiv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24"/>
          <p:cNvSpPr/>
          <p:nvPr/>
        </p:nvSpPr>
        <p:spPr>
          <a:xfrm>
            <a:off x="6767640" y="3968640"/>
            <a:ext cx="2052360" cy="118764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6912000" y="4834080"/>
            <a:ext cx="1763640" cy="1618560"/>
          </a:xfrm>
          <a:prstGeom prst="rect">
            <a:avLst/>
          </a:prstGeom>
          <a:solidFill>
            <a:srgbClr val="ff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scenze aritmetiche geometriche algebriche statis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3635280" y="1197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cn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6877080" y="20970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log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592360" y="4076640"/>
            <a:ext cx="21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à infoma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25"/>
          <p:cNvSpPr/>
          <p:nvPr/>
        </p:nvSpPr>
        <p:spPr>
          <a:xfrm>
            <a:off x="6877080" y="4292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or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AutoShape 3"/>
          <p:cNvSpPr/>
          <p:nvPr/>
        </p:nvSpPr>
        <p:spPr>
          <a:xfrm rot="5360400">
            <a:off x="6731280" y="2412000"/>
            <a:ext cx="814680" cy="86652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4"/>
          <p:cNvSpPr/>
          <p:nvPr/>
        </p:nvSpPr>
        <p:spPr>
          <a:xfrm rot="10757400">
            <a:off x="6629400" y="48006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124080" y="4651200"/>
            <a:ext cx="3276720" cy="703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 la soluzione trovata  non è soddisfacente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3276720" y="5481720"/>
            <a:ext cx="31003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4: VALID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5724360" y="3716280"/>
            <a:ext cx="295308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8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5076720" y="3716280"/>
            <a:ext cx="381636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 con 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          DISCUS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Oval 17"/>
          <p:cNvSpPr/>
          <p:nvPr/>
        </p:nvSpPr>
        <p:spPr>
          <a:xfrm>
            <a:off x="3095640" y="2241720"/>
            <a:ext cx="2050920" cy="9363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4"/>
          <p:cNvSpPr/>
          <p:nvPr/>
        </p:nvSpPr>
        <p:spPr>
          <a:xfrm rot="5360400">
            <a:off x="6731280" y="2412000"/>
            <a:ext cx="814680" cy="86652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5"/>
          <p:cNvSpPr/>
          <p:nvPr/>
        </p:nvSpPr>
        <p:spPr>
          <a:xfrm rot="10757400">
            <a:off x="6629400" y="48006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276720" y="5481720"/>
            <a:ext cx="31003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4: VALID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2771640" y="4437000"/>
            <a:ext cx="36576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erifica della adeguatezza della soluzione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Oval 13"/>
          <p:cNvSpPr/>
          <p:nvPr/>
        </p:nvSpPr>
        <p:spPr>
          <a:xfrm>
            <a:off x="1008000" y="1989000"/>
            <a:ext cx="2052720" cy="9367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1042920" y="2205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cn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15"/>
          <p:cNvSpPr/>
          <p:nvPr/>
        </p:nvSpPr>
        <p:spPr>
          <a:xfrm flipH="1" flipV="1">
            <a:off x="2556000" y="2599920"/>
            <a:ext cx="1116000" cy="1981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6"/>
          <p:cNvSpPr/>
          <p:nvPr/>
        </p:nvSpPr>
        <p:spPr>
          <a:xfrm>
            <a:off x="3059280" y="2313000"/>
            <a:ext cx="21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à infoma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18"/>
          <p:cNvSpPr/>
          <p:nvPr/>
        </p:nvSpPr>
        <p:spPr>
          <a:xfrm flipV="1">
            <a:off x="3780000" y="3033720"/>
            <a:ext cx="612720" cy="144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Oval 19"/>
          <p:cNvSpPr/>
          <p:nvPr/>
        </p:nvSpPr>
        <p:spPr>
          <a:xfrm>
            <a:off x="6767640" y="3968640"/>
            <a:ext cx="2052360" cy="118764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20"/>
          <p:cNvSpPr/>
          <p:nvPr/>
        </p:nvSpPr>
        <p:spPr>
          <a:xfrm>
            <a:off x="6877080" y="4292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or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23"/>
          <p:cNvSpPr/>
          <p:nvPr/>
        </p:nvSpPr>
        <p:spPr>
          <a:xfrm flipV="1">
            <a:off x="6119640" y="4833720"/>
            <a:ext cx="1116360" cy="3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8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5076720" y="3716280"/>
            <a:ext cx="381636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 con 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          DISCUS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Oval 17"/>
          <p:cNvSpPr/>
          <p:nvPr/>
        </p:nvSpPr>
        <p:spPr>
          <a:xfrm>
            <a:off x="3095640" y="2241720"/>
            <a:ext cx="2050920" cy="9363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 rot="5360400">
            <a:off x="6731280" y="2412000"/>
            <a:ext cx="814680" cy="86652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5"/>
          <p:cNvSpPr/>
          <p:nvPr/>
        </p:nvSpPr>
        <p:spPr>
          <a:xfrm rot="10757400">
            <a:off x="6629400" y="48006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276720" y="5481720"/>
            <a:ext cx="31003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4: VALID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2771640" y="4437000"/>
            <a:ext cx="36576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erifica della adeguatezza della soluzione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Oval 13"/>
          <p:cNvSpPr/>
          <p:nvPr/>
        </p:nvSpPr>
        <p:spPr>
          <a:xfrm>
            <a:off x="1008000" y="1989000"/>
            <a:ext cx="2052720" cy="9367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15"/>
          <p:cNvSpPr/>
          <p:nvPr/>
        </p:nvSpPr>
        <p:spPr>
          <a:xfrm flipH="1" flipV="1">
            <a:off x="2556000" y="2599920"/>
            <a:ext cx="1116000" cy="1981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V="1">
            <a:off x="3780000" y="3033720"/>
            <a:ext cx="612720" cy="144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Oval 19"/>
          <p:cNvSpPr/>
          <p:nvPr/>
        </p:nvSpPr>
        <p:spPr>
          <a:xfrm>
            <a:off x="6767640" y="3968640"/>
            <a:ext cx="2052360" cy="118764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23"/>
          <p:cNvSpPr/>
          <p:nvPr/>
        </p:nvSpPr>
        <p:spPr>
          <a:xfrm flipV="1">
            <a:off x="6119640" y="4833720"/>
            <a:ext cx="1116360" cy="3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1042920" y="2205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cn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6"/>
          <p:cNvSpPr/>
          <p:nvPr/>
        </p:nvSpPr>
        <p:spPr>
          <a:xfrm>
            <a:off x="3059280" y="2313000"/>
            <a:ext cx="21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à infoma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6877080" y="4292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petti teor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576360" y="2816280"/>
            <a:ext cx="2700360" cy="2045160"/>
          </a:xfrm>
          <a:prstGeom prst="rect">
            <a:avLst/>
          </a:prstGeom>
          <a:solidFill>
            <a:srgbClr val="ff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porto con la realt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dine di grandezza     cifre significative Approssimazione/ arrotond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366920" y="2673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La nostra storia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1008000" y="189000"/>
            <a:ext cx="8136000" cy="6168960"/>
            <a:chOff x="1008000" y="189000"/>
            <a:chExt cx="8136000" cy="6168960"/>
          </a:xfrm>
        </p:grpSpPr>
        <p:grpSp>
          <p:nvGrpSpPr>
            <p:cNvPr id="473" name="Group 3"/>
            <p:cNvGrpSpPr/>
            <p:nvPr/>
          </p:nvGrpSpPr>
          <p:grpSpPr>
            <a:xfrm>
              <a:off x="1008000" y="189000"/>
              <a:ext cx="8136000" cy="321480"/>
              <a:chOff x="1008000" y="189000"/>
              <a:chExt cx="8136000" cy="321480"/>
            </a:xfrm>
          </p:grpSpPr>
          <p:sp>
            <p:nvSpPr>
              <p:cNvPr id="474" name="Rectangle 4"/>
              <p:cNvSpPr/>
              <p:nvPr/>
            </p:nvSpPr>
            <p:spPr>
              <a:xfrm>
                <a:off x="1049760" y="189000"/>
                <a:ext cx="805176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getto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novamatica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– MATEMATICA&amp;REALTA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’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Rectangle 5"/>
              <p:cNvSpPr/>
              <p:nvPr/>
            </p:nvSpPr>
            <p:spPr>
              <a:xfrm>
                <a:off x="1008000" y="189000"/>
                <a:ext cx="8136000" cy="32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6"/>
            <p:cNvGrpSpPr/>
            <p:nvPr/>
          </p:nvGrpSpPr>
          <p:grpSpPr>
            <a:xfrm>
              <a:off x="1008000" y="510480"/>
              <a:ext cx="8136000" cy="313560"/>
              <a:chOff x="1008000" y="510480"/>
              <a:chExt cx="8136000" cy="313560"/>
            </a:xfrm>
          </p:grpSpPr>
          <p:sp>
            <p:nvSpPr>
              <p:cNvPr id="477" name="Rectangle 7"/>
              <p:cNvSpPr/>
              <p:nvPr/>
            </p:nvSpPr>
            <p:spPr>
              <a:xfrm>
                <a:off x="1049760" y="510480"/>
                <a:ext cx="8051760" cy="3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Sintesi delle attività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Rectangle 8"/>
              <p:cNvSpPr/>
              <p:nvPr/>
            </p:nvSpPr>
            <p:spPr>
              <a:xfrm>
                <a:off x="1008000" y="510480"/>
                <a:ext cx="8136000" cy="31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9"/>
            <p:cNvGrpSpPr/>
            <p:nvPr/>
          </p:nvGrpSpPr>
          <p:grpSpPr>
            <a:xfrm>
              <a:off x="1008000" y="824400"/>
              <a:ext cx="741960" cy="391680"/>
              <a:chOff x="1008000" y="824400"/>
              <a:chExt cx="741960" cy="391680"/>
            </a:xfrm>
          </p:grpSpPr>
          <p:sp>
            <p:nvSpPr>
              <p:cNvPr id="480" name="Rectangle 10"/>
              <p:cNvSpPr/>
              <p:nvPr/>
            </p:nvSpPr>
            <p:spPr>
              <a:xfrm>
                <a:off x="1049760" y="824400"/>
                <a:ext cx="6580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199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Rectangle 11"/>
              <p:cNvSpPr/>
              <p:nvPr/>
            </p:nvSpPr>
            <p:spPr>
              <a:xfrm>
                <a:off x="1008000" y="824400"/>
                <a:ext cx="74196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12"/>
            <p:cNvGrpSpPr/>
            <p:nvPr/>
          </p:nvGrpSpPr>
          <p:grpSpPr>
            <a:xfrm>
              <a:off x="1749960" y="824400"/>
              <a:ext cx="456840" cy="391680"/>
              <a:chOff x="1749960" y="824400"/>
              <a:chExt cx="456840" cy="391680"/>
            </a:xfrm>
          </p:grpSpPr>
          <p:sp>
            <p:nvSpPr>
              <p:cNvPr id="483" name="Rectangle 13"/>
              <p:cNvSpPr/>
              <p:nvPr/>
            </p:nvSpPr>
            <p:spPr>
              <a:xfrm>
                <a:off x="1792080" y="824400"/>
                <a:ext cx="3722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9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Rectangle 14"/>
              <p:cNvSpPr/>
              <p:nvPr/>
            </p:nvSpPr>
            <p:spPr>
              <a:xfrm>
                <a:off x="1749960" y="824400"/>
                <a:ext cx="45684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15"/>
            <p:cNvGrpSpPr/>
            <p:nvPr/>
          </p:nvGrpSpPr>
          <p:grpSpPr>
            <a:xfrm>
              <a:off x="2206800" y="824400"/>
              <a:ext cx="741960" cy="391680"/>
              <a:chOff x="2206800" y="824400"/>
              <a:chExt cx="741960" cy="391680"/>
            </a:xfrm>
          </p:grpSpPr>
          <p:sp>
            <p:nvSpPr>
              <p:cNvPr id="486" name="Rectangle 16"/>
              <p:cNvSpPr/>
              <p:nvPr/>
            </p:nvSpPr>
            <p:spPr>
              <a:xfrm>
                <a:off x="2248560" y="824400"/>
                <a:ext cx="6580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9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Rectangle 17"/>
              <p:cNvSpPr/>
              <p:nvPr/>
            </p:nvSpPr>
            <p:spPr>
              <a:xfrm>
                <a:off x="2206800" y="824400"/>
                <a:ext cx="74196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18"/>
            <p:cNvGrpSpPr/>
            <p:nvPr/>
          </p:nvGrpSpPr>
          <p:grpSpPr>
            <a:xfrm>
              <a:off x="2948760" y="824400"/>
              <a:ext cx="456840" cy="391680"/>
              <a:chOff x="2948760" y="824400"/>
              <a:chExt cx="456840" cy="391680"/>
            </a:xfrm>
          </p:grpSpPr>
          <p:sp>
            <p:nvSpPr>
              <p:cNvPr id="489" name="Rectangle 19"/>
              <p:cNvSpPr/>
              <p:nvPr/>
            </p:nvSpPr>
            <p:spPr>
              <a:xfrm>
                <a:off x="2990880" y="824400"/>
                <a:ext cx="3722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9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Rectangle 20"/>
              <p:cNvSpPr/>
              <p:nvPr/>
            </p:nvSpPr>
            <p:spPr>
              <a:xfrm>
                <a:off x="2948760" y="824400"/>
                <a:ext cx="45684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3405960" y="824400"/>
              <a:ext cx="455040" cy="391680"/>
              <a:chOff x="3405960" y="824400"/>
              <a:chExt cx="455040" cy="391680"/>
            </a:xfrm>
          </p:grpSpPr>
          <p:sp>
            <p:nvSpPr>
              <p:cNvPr id="492" name="Rectangle 22"/>
              <p:cNvSpPr/>
              <p:nvPr/>
            </p:nvSpPr>
            <p:spPr>
              <a:xfrm>
                <a:off x="3447720" y="824400"/>
                <a:ext cx="37116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9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Rectangle 23"/>
              <p:cNvSpPr/>
              <p:nvPr/>
            </p:nvSpPr>
            <p:spPr>
              <a:xfrm>
                <a:off x="3405960" y="824400"/>
                <a:ext cx="45504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4"/>
            <p:cNvGrpSpPr/>
            <p:nvPr/>
          </p:nvGrpSpPr>
          <p:grpSpPr>
            <a:xfrm>
              <a:off x="3861000" y="824400"/>
              <a:ext cx="456840" cy="391680"/>
              <a:chOff x="3861000" y="824400"/>
              <a:chExt cx="456840" cy="391680"/>
            </a:xfrm>
          </p:grpSpPr>
          <p:sp>
            <p:nvSpPr>
              <p:cNvPr id="495" name="Rectangle 25"/>
              <p:cNvSpPr/>
              <p:nvPr/>
            </p:nvSpPr>
            <p:spPr>
              <a:xfrm>
                <a:off x="3903120" y="824400"/>
                <a:ext cx="3722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9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Rectangle 26"/>
              <p:cNvSpPr/>
              <p:nvPr/>
            </p:nvSpPr>
            <p:spPr>
              <a:xfrm>
                <a:off x="3861000" y="824400"/>
                <a:ext cx="45684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27"/>
            <p:cNvGrpSpPr/>
            <p:nvPr/>
          </p:nvGrpSpPr>
          <p:grpSpPr>
            <a:xfrm>
              <a:off x="4317840" y="824400"/>
              <a:ext cx="741960" cy="391680"/>
              <a:chOff x="4317840" y="824400"/>
              <a:chExt cx="741960" cy="391680"/>
            </a:xfrm>
          </p:grpSpPr>
          <p:sp>
            <p:nvSpPr>
              <p:cNvPr id="498" name="Rectangle 28"/>
              <p:cNvSpPr/>
              <p:nvPr/>
            </p:nvSpPr>
            <p:spPr>
              <a:xfrm>
                <a:off x="4359600" y="824400"/>
                <a:ext cx="6580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20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Rectangle 29"/>
              <p:cNvSpPr/>
              <p:nvPr/>
            </p:nvSpPr>
            <p:spPr>
              <a:xfrm>
                <a:off x="4317840" y="824400"/>
                <a:ext cx="74196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30"/>
            <p:cNvGrpSpPr/>
            <p:nvPr/>
          </p:nvGrpSpPr>
          <p:grpSpPr>
            <a:xfrm>
              <a:off x="5060160" y="824400"/>
              <a:ext cx="741960" cy="391680"/>
              <a:chOff x="5060160" y="824400"/>
              <a:chExt cx="741960" cy="391680"/>
            </a:xfrm>
          </p:grpSpPr>
          <p:sp>
            <p:nvSpPr>
              <p:cNvPr id="501" name="Rectangle 31"/>
              <p:cNvSpPr/>
              <p:nvPr/>
            </p:nvSpPr>
            <p:spPr>
              <a:xfrm>
                <a:off x="5101920" y="824400"/>
                <a:ext cx="6580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0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Rectangle 32"/>
              <p:cNvSpPr/>
              <p:nvPr/>
            </p:nvSpPr>
            <p:spPr>
              <a:xfrm>
                <a:off x="5060160" y="824400"/>
                <a:ext cx="74196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33"/>
            <p:cNvGrpSpPr/>
            <p:nvPr/>
          </p:nvGrpSpPr>
          <p:grpSpPr>
            <a:xfrm>
              <a:off x="5802120" y="824400"/>
              <a:ext cx="742320" cy="391680"/>
              <a:chOff x="5802120" y="824400"/>
              <a:chExt cx="742320" cy="391680"/>
            </a:xfrm>
          </p:grpSpPr>
          <p:sp>
            <p:nvSpPr>
              <p:cNvPr id="504" name="Rectangle 34"/>
              <p:cNvSpPr/>
              <p:nvPr/>
            </p:nvSpPr>
            <p:spPr>
              <a:xfrm>
                <a:off x="5844240" y="824400"/>
                <a:ext cx="65772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0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Rectangle 35"/>
              <p:cNvSpPr/>
              <p:nvPr/>
            </p:nvSpPr>
            <p:spPr>
              <a:xfrm>
                <a:off x="5802120" y="824400"/>
                <a:ext cx="74232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36"/>
            <p:cNvGrpSpPr/>
            <p:nvPr/>
          </p:nvGrpSpPr>
          <p:grpSpPr>
            <a:xfrm>
              <a:off x="6544440" y="824400"/>
              <a:ext cx="741960" cy="391680"/>
              <a:chOff x="6544440" y="824400"/>
              <a:chExt cx="741960" cy="391680"/>
            </a:xfrm>
          </p:grpSpPr>
          <p:sp>
            <p:nvSpPr>
              <p:cNvPr id="507" name="Rectangle 37"/>
              <p:cNvSpPr/>
              <p:nvPr/>
            </p:nvSpPr>
            <p:spPr>
              <a:xfrm>
                <a:off x="6586200" y="824400"/>
                <a:ext cx="6580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0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Rectangle 38"/>
              <p:cNvSpPr/>
              <p:nvPr/>
            </p:nvSpPr>
            <p:spPr>
              <a:xfrm>
                <a:off x="6544440" y="824400"/>
                <a:ext cx="74196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9"/>
            <p:cNvGrpSpPr/>
            <p:nvPr/>
          </p:nvGrpSpPr>
          <p:grpSpPr>
            <a:xfrm>
              <a:off x="7286760" y="824400"/>
              <a:ext cx="742320" cy="391680"/>
              <a:chOff x="7286760" y="824400"/>
              <a:chExt cx="742320" cy="391680"/>
            </a:xfrm>
          </p:grpSpPr>
          <p:sp>
            <p:nvSpPr>
              <p:cNvPr id="510" name="Rectangle 40"/>
              <p:cNvSpPr/>
              <p:nvPr/>
            </p:nvSpPr>
            <p:spPr>
              <a:xfrm>
                <a:off x="7328880" y="824400"/>
                <a:ext cx="65772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0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Rectangle 41"/>
              <p:cNvSpPr/>
              <p:nvPr/>
            </p:nvSpPr>
            <p:spPr>
              <a:xfrm>
                <a:off x="7286760" y="824400"/>
                <a:ext cx="74232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42"/>
            <p:cNvGrpSpPr/>
            <p:nvPr/>
          </p:nvGrpSpPr>
          <p:grpSpPr>
            <a:xfrm>
              <a:off x="8029080" y="824400"/>
              <a:ext cx="455040" cy="391680"/>
              <a:chOff x="8029080" y="824400"/>
              <a:chExt cx="455040" cy="391680"/>
            </a:xfrm>
          </p:grpSpPr>
          <p:sp>
            <p:nvSpPr>
              <p:cNvPr id="513" name="Rectangle 43"/>
              <p:cNvSpPr/>
              <p:nvPr/>
            </p:nvSpPr>
            <p:spPr>
              <a:xfrm>
                <a:off x="8070840" y="824400"/>
                <a:ext cx="37080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…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Rectangle 44"/>
              <p:cNvSpPr/>
              <p:nvPr/>
            </p:nvSpPr>
            <p:spPr>
              <a:xfrm>
                <a:off x="8029080" y="824400"/>
                <a:ext cx="45504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45"/>
            <p:cNvGrpSpPr/>
            <p:nvPr/>
          </p:nvGrpSpPr>
          <p:grpSpPr>
            <a:xfrm>
              <a:off x="8484120" y="824400"/>
              <a:ext cx="659520" cy="391680"/>
              <a:chOff x="8484120" y="824400"/>
              <a:chExt cx="659520" cy="391680"/>
            </a:xfrm>
          </p:grpSpPr>
          <p:sp>
            <p:nvSpPr>
              <p:cNvPr id="516" name="Rectangle 46"/>
              <p:cNvSpPr/>
              <p:nvPr/>
            </p:nvSpPr>
            <p:spPr>
              <a:xfrm>
                <a:off x="8525880" y="824400"/>
                <a:ext cx="5752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Rectangle 47"/>
              <p:cNvSpPr/>
              <p:nvPr/>
            </p:nvSpPr>
            <p:spPr>
              <a:xfrm>
                <a:off x="8484120" y="824400"/>
                <a:ext cx="659520" cy="39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48"/>
            <p:cNvGrpSpPr/>
            <p:nvPr/>
          </p:nvGrpSpPr>
          <p:grpSpPr>
            <a:xfrm>
              <a:off x="1008000" y="1216080"/>
              <a:ext cx="8136000" cy="313560"/>
              <a:chOff x="1008000" y="1216080"/>
              <a:chExt cx="8136000" cy="313560"/>
            </a:xfrm>
          </p:grpSpPr>
          <p:sp>
            <p:nvSpPr>
              <p:cNvPr id="519" name="Rectangle 49"/>
              <p:cNvSpPr/>
              <p:nvPr/>
            </p:nvSpPr>
            <p:spPr>
              <a:xfrm>
                <a:off x="1049760" y="1216080"/>
                <a:ext cx="8051760" cy="3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oglienza matrico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Rectangle 50"/>
              <p:cNvSpPr/>
              <p:nvPr/>
            </p:nvSpPr>
            <p:spPr>
              <a:xfrm>
                <a:off x="1008000" y="1216080"/>
                <a:ext cx="8136000" cy="31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51"/>
            <p:cNvGrpSpPr/>
            <p:nvPr/>
          </p:nvGrpSpPr>
          <p:grpSpPr>
            <a:xfrm>
              <a:off x="1008000" y="1530000"/>
              <a:ext cx="2701440" cy="329040"/>
              <a:chOff x="1008000" y="1530000"/>
              <a:chExt cx="2701440" cy="329040"/>
            </a:xfrm>
          </p:grpSpPr>
          <p:sp>
            <p:nvSpPr>
              <p:cNvPr id="522" name="Rectangle 52"/>
              <p:cNvSpPr/>
              <p:nvPr/>
            </p:nvSpPr>
            <p:spPr>
              <a:xfrm>
                <a:off x="1008000" y="1530000"/>
                <a:ext cx="270144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3" name="Group 53"/>
              <p:cNvGrpSpPr/>
              <p:nvPr/>
            </p:nvGrpSpPr>
            <p:grpSpPr>
              <a:xfrm>
                <a:off x="1008000" y="1530000"/>
                <a:ext cx="2701440" cy="329040"/>
                <a:chOff x="1008000" y="1530000"/>
                <a:chExt cx="2701440" cy="329040"/>
              </a:xfrm>
            </p:grpSpPr>
            <p:sp>
              <p:nvSpPr>
                <p:cNvPr id="524" name="Rectangle 54"/>
                <p:cNvSpPr/>
                <p:nvPr/>
              </p:nvSpPr>
              <p:spPr>
                <a:xfrm>
                  <a:off x="1049760" y="1530000"/>
                  <a:ext cx="261720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55"/>
                <p:cNvSpPr/>
                <p:nvPr/>
              </p:nvSpPr>
              <p:spPr>
                <a:xfrm>
                  <a:off x="1008000" y="1530000"/>
                  <a:ext cx="270144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6" name="Group 56"/>
            <p:cNvGrpSpPr/>
            <p:nvPr/>
          </p:nvGrpSpPr>
          <p:grpSpPr>
            <a:xfrm>
              <a:off x="3709440" y="1530000"/>
              <a:ext cx="5434200" cy="329040"/>
              <a:chOff x="3709440" y="1530000"/>
              <a:chExt cx="5434200" cy="329040"/>
            </a:xfrm>
          </p:grpSpPr>
          <p:sp>
            <p:nvSpPr>
              <p:cNvPr id="527" name="Rectangle 57"/>
              <p:cNvSpPr/>
              <p:nvPr/>
            </p:nvSpPr>
            <p:spPr>
              <a:xfrm>
                <a:off x="3751200" y="1530000"/>
                <a:ext cx="534996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Rectangle 58"/>
              <p:cNvSpPr/>
              <p:nvPr/>
            </p:nvSpPr>
            <p:spPr>
              <a:xfrm>
                <a:off x="3709440" y="1530000"/>
                <a:ext cx="543420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59"/>
            <p:cNvGrpSpPr/>
            <p:nvPr/>
          </p:nvGrpSpPr>
          <p:grpSpPr>
            <a:xfrm>
              <a:off x="1008000" y="1859040"/>
              <a:ext cx="8136000" cy="313200"/>
              <a:chOff x="1008000" y="1859040"/>
              <a:chExt cx="8136000" cy="313200"/>
            </a:xfrm>
          </p:grpSpPr>
          <p:sp>
            <p:nvSpPr>
              <p:cNvPr id="530" name="Rectangle 60"/>
              <p:cNvSpPr/>
              <p:nvPr/>
            </p:nvSpPr>
            <p:spPr>
              <a:xfrm>
                <a:off x="1049760" y="1859040"/>
                <a:ext cx="8051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ormazione Docenti &amp; sperimentazione didatt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Rectangle 61"/>
              <p:cNvSpPr/>
              <p:nvPr/>
            </p:nvSpPr>
            <p:spPr>
              <a:xfrm>
                <a:off x="1008000" y="1859040"/>
                <a:ext cx="8136000" cy="313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62"/>
            <p:cNvGrpSpPr/>
            <p:nvPr/>
          </p:nvGrpSpPr>
          <p:grpSpPr>
            <a:xfrm>
              <a:off x="1008000" y="2172600"/>
              <a:ext cx="970560" cy="329040"/>
              <a:chOff x="1008000" y="2172600"/>
              <a:chExt cx="970560" cy="329040"/>
            </a:xfrm>
          </p:grpSpPr>
          <p:sp>
            <p:nvSpPr>
              <p:cNvPr id="533" name="Rectangle 63"/>
              <p:cNvSpPr/>
              <p:nvPr/>
            </p:nvSpPr>
            <p:spPr>
              <a:xfrm>
                <a:off x="1049760" y="2172600"/>
                <a:ext cx="88632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Rectangle 64"/>
              <p:cNvSpPr/>
              <p:nvPr/>
            </p:nvSpPr>
            <p:spPr>
              <a:xfrm>
                <a:off x="1008000" y="2172600"/>
                <a:ext cx="97056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65"/>
            <p:cNvGrpSpPr/>
            <p:nvPr/>
          </p:nvGrpSpPr>
          <p:grpSpPr>
            <a:xfrm>
              <a:off x="1978560" y="2172600"/>
              <a:ext cx="7165080" cy="329040"/>
              <a:chOff x="1978560" y="2172600"/>
              <a:chExt cx="7165080" cy="329040"/>
            </a:xfrm>
          </p:grpSpPr>
          <p:sp>
            <p:nvSpPr>
              <p:cNvPr id="536" name="Rectangle 66"/>
              <p:cNvSpPr/>
              <p:nvPr/>
            </p:nvSpPr>
            <p:spPr>
              <a:xfrm>
                <a:off x="1978560" y="2172600"/>
                <a:ext cx="716508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7" name="Group 67"/>
              <p:cNvGrpSpPr/>
              <p:nvPr/>
            </p:nvGrpSpPr>
            <p:grpSpPr>
              <a:xfrm>
                <a:off x="1978560" y="2172600"/>
                <a:ext cx="7165080" cy="329040"/>
                <a:chOff x="1978560" y="2172600"/>
                <a:chExt cx="7165080" cy="329040"/>
              </a:xfrm>
            </p:grpSpPr>
            <p:sp>
              <p:nvSpPr>
                <p:cNvPr id="538" name="Rectangle 68"/>
                <p:cNvSpPr/>
                <p:nvPr/>
              </p:nvSpPr>
              <p:spPr>
                <a:xfrm>
                  <a:off x="2020320" y="2172600"/>
                  <a:ext cx="708084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Rectangle 69"/>
                <p:cNvSpPr/>
                <p:nvPr/>
              </p:nvSpPr>
              <p:spPr>
                <a:xfrm>
                  <a:off x="1978560" y="2172600"/>
                  <a:ext cx="716508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Group 70"/>
            <p:cNvGrpSpPr/>
            <p:nvPr/>
          </p:nvGrpSpPr>
          <p:grpSpPr>
            <a:xfrm>
              <a:off x="1008000" y="2501640"/>
              <a:ext cx="8136000" cy="313560"/>
              <a:chOff x="1008000" y="2501640"/>
              <a:chExt cx="8136000" cy="313560"/>
            </a:xfrm>
          </p:grpSpPr>
          <p:sp>
            <p:nvSpPr>
              <p:cNvPr id="541" name="Rectangle 71"/>
              <p:cNvSpPr/>
              <p:nvPr/>
            </p:nvSpPr>
            <p:spPr>
              <a:xfrm>
                <a:off x="1049760" y="2501640"/>
                <a:ext cx="8051760" cy="3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novazione didattica universita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Rectangle 72"/>
              <p:cNvSpPr/>
              <p:nvPr/>
            </p:nvSpPr>
            <p:spPr>
              <a:xfrm>
                <a:off x="1008000" y="2501640"/>
                <a:ext cx="8136000" cy="31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73"/>
            <p:cNvGrpSpPr/>
            <p:nvPr/>
          </p:nvGrpSpPr>
          <p:grpSpPr>
            <a:xfrm>
              <a:off x="1008000" y="2815200"/>
              <a:ext cx="2169360" cy="329040"/>
              <a:chOff x="1008000" y="2815200"/>
              <a:chExt cx="2169360" cy="329040"/>
            </a:xfrm>
          </p:grpSpPr>
          <p:sp>
            <p:nvSpPr>
              <p:cNvPr id="544" name="Rectangle 74"/>
              <p:cNvSpPr/>
              <p:nvPr/>
            </p:nvSpPr>
            <p:spPr>
              <a:xfrm>
                <a:off x="1049760" y="2815200"/>
                <a:ext cx="208512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Rectangle 75"/>
              <p:cNvSpPr/>
              <p:nvPr/>
            </p:nvSpPr>
            <p:spPr>
              <a:xfrm>
                <a:off x="1008000" y="2815200"/>
                <a:ext cx="216936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76"/>
            <p:cNvGrpSpPr/>
            <p:nvPr/>
          </p:nvGrpSpPr>
          <p:grpSpPr>
            <a:xfrm>
              <a:off x="3177360" y="2815200"/>
              <a:ext cx="5966280" cy="329040"/>
              <a:chOff x="3177360" y="2815200"/>
              <a:chExt cx="5966280" cy="329040"/>
            </a:xfrm>
          </p:grpSpPr>
          <p:sp>
            <p:nvSpPr>
              <p:cNvPr id="547" name="Rectangle 77"/>
              <p:cNvSpPr/>
              <p:nvPr/>
            </p:nvSpPr>
            <p:spPr>
              <a:xfrm>
                <a:off x="3177360" y="2815200"/>
                <a:ext cx="596628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8" name="Group 78"/>
              <p:cNvGrpSpPr/>
              <p:nvPr/>
            </p:nvGrpSpPr>
            <p:grpSpPr>
              <a:xfrm>
                <a:off x="3177360" y="2815200"/>
                <a:ext cx="5966280" cy="329040"/>
                <a:chOff x="3177360" y="2815200"/>
                <a:chExt cx="5966280" cy="329040"/>
              </a:xfrm>
            </p:grpSpPr>
            <p:sp>
              <p:nvSpPr>
                <p:cNvPr id="549" name="Rectangle 79"/>
                <p:cNvSpPr/>
                <p:nvPr/>
              </p:nvSpPr>
              <p:spPr>
                <a:xfrm>
                  <a:off x="3219120" y="2815200"/>
                  <a:ext cx="588204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Rectangle 80"/>
                <p:cNvSpPr/>
                <p:nvPr/>
              </p:nvSpPr>
              <p:spPr>
                <a:xfrm>
                  <a:off x="3177360" y="2815200"/>
                  <a:ext cx="596628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1" name="Group 81"/>
            <p:cNvGrpSpPr/>
            <p:nvPr/>
          </p:nvGrpSpPr>
          <p:grpSpPr>
            <a:xfrm>
              <a:off x="1008000" y="3144240"/>
              <a:ext cx="8136000" cy="313200"/>
              <a:chOff x="1008000" y="3144240"/>
              <a:chExt cx="8136000" cy="313200"/>
            </a:xfrm>
          </p:grpSpPr>
          <p:sp>
            <p:nvSpPr>
              <p:cNvPr id="552" name="Rectangle 82"/>
              <p:cNvSpPr/>
              <p:nvPr/>
            </p:nvSpPr>
            <p:spPr>
              <a:xfrm>
                <a:off x="1049760" y="3144240"/>
                <a:ext cx="8051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          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vulgazione scientif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83"/>
              <p:cNvSpPr/>
              <p:nvPr/>
            </p:nvSpPr>
            <p:spPr>
              <a:xfrm>
                <a:off x="1008000" y="3144240"/>
                <a:ext cx="8136000" cy="313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84"/>
            <p:cNvGrpSpPr/>
            <p:nvPr/>
          </p:nvGrpSpPr>
          <p:grpSpPr>
            <a:xfrm>
              <a:off x="1008000" y="3457800"/>
              <a:ext cx="2549520" cy="329040"/>
              <a:chOff x="1008000" y="3457800"/>
              <a:chExt cx="2549520" cy="329040"/>
            </a:xfrm>
          </p:grpSpPr>
          <p:sp>
            <p:nvSpPr>
              <p:cNvPr id="555" name="Rectangle 85"/>
              <p:cNvSpPr/>
              <p:nvPr/>
            </p:nvSpPr>
            <p:spPr>
              <a:xfrm>
                <a:off x="1049760" y="3457800"/>
                <a:ext cx="246564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Rectangle 86"/>
              <p:cNvSpPr/>
              <p:nvPr/>
            </p:nvSpPr>
            <p:spPr>
              <a:xfrm>
                <a:off x="1008000" y="3457800"/>
                <a:ext cx="254952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87"/>
            <p:cNvGrpSpPr/>
            <p:nvPr/>
          </p:nvGrpSpPr>
          <p:grpSpPr>
            <a:xfrm>
              <a:off x="3557520" y="3457800"/>
              <a:ext cx="5586120" cy="329040"/>
              <a:chOff x="3557520" y="3457800"/>
              <a:chExt cx="5586120" cy="329040"/>
            </a:xfrm>
          </p:grpSpPr>
          <p:sp>
            <p:nvSpPr>
              <p:cNvPr id="558" name="Rectangle 88"/>
              <p:cNvSpPr/>
              <p:nvPr/>
            </p:nvSpPr>
            <p:spPr>
              <a:xfrm>
                <a:off x="3557520" y="3457800"/>
                <a:ext cx="558612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9" name="Group 89"/>
              <p:cNvGrpSpPr/>
              <p:nvPr/>
            </p:nvGrpSpPr>
            <p:grpSpPr>
              <a:xfrm>
                <a:off x="3557520" y="3457800"/>
                <a:ext cx="5586120" cy="329040"/>
                <a:chOff x="3557520" y="3457800"/>
                <a:chExt cx="5586120" cy="329040"/>
              </a:xfrm>
            </p:grpSpPr>
            <p:sp>
              <p:nvSpPr>
                <p:cNvPr id="560" name="Rectangle 90"/>
                <p:cNvSpPr/>
                <p:nvPr/>
              </p:nvSpPr>
              <p:spPr>
                <a:xfrm>
                  <a:off x="3599640" y="3457800"/>
                  <a:ext cx="550152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91"/>
                <p:cNvSpPr/>
                <p:nvPr/>
              </p:nvSpPr>
              <p:spPr>
                <a:xfrm>
                  <a:off x="3557520" y="3457800"/>
                  <a:ext cx="558612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Group 92"/>
            <p:cNvGrpSpPr/>
            <p:nvPr/>
          </p:nvGrpSpPr>
          <p:grpSpPr>
            <a:xfrm>
              <a:off x="1008000" y="3787200"/>
              <a:ext cx="8136000" cy="313560"/>
              <a:chOff x="1008000" y="3787200"/>
              <a:chExt cx="8136000" cy="313560"/>
            </a:xfrm>
          </p:grpSpPr>
          <p:sp>
            <p:nvSpPr>
              <p:cNvPr id="563" name="Rectangle 93"/>
              <p:cNvSpPr/>
              <p:nvPr/>
            </p:nvSpPr>
            <p:spPr>
              <a:xfrm>
                <a:off x="1049760" y="3787200"/>
                <a:ext cx="8051760" cy="3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ientamatica formazione pre universita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94"/>
              <p:cNvSpPr/>
              <p:nvPr/>
            </p:nvSpPr>
            <p:spPr>
              <a:xfrm>
                <a:off x="1008000" y="3787200"/>
                <a:ext cx="8136000" cy="31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95"/>
            <p:cNvGrpSpPr/>
            <p:nvPr/>
          </p:nvGrpSpPr>
          <p:grpSpPr>
            <a:xfrm>
              <a:off x="1008000" y="4100760"/>
              <a:ext cx="2549520" cy="329040"/>
              <a:chOff x="1008000" y="4100760"/>
              <a:chExt cx="2549520" cy="329040"/>
            </a:xfrm>
          </p:grpSpPr>
          <p:sp>
            <p:nvSpPr>
              <p:cNvPr id="566" name="Rectangle 96"/>
              <p:cNvSpPr/>
              <p:nvPr/>
            </p:nvSpPr>
            <p:spPr>
              <a:xfrm>
                <a:off x="1049760" y="4100760"/>
                <a:ext cx="246564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97"/>
              <p:cNvSpPr/>
              <p:nvPr/>
            </p:nvSpPr>
            <p:spPr>
              <a:xfrm>
                <a:off x="1008000" y="4100760"/>
                <a:ext cx="254952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98"/>
            <p:cNvGrpSpPr/>
            <p:nvPr/>
          </p:nvGrpSpPr>
          <p:grpSpPr>
            <a:xfrm>
              <a:off x="3557520" y="4100760"/>
              <a:ext cx="5586120" cy="329040"/>
              <a:chOff x="3557520" y="4100760"/>
              <a:chExt cx="5586120" cy="329040"/>
            </a:xfrm>
          </p:grpSpPr>
          <p:sp>
            <p:nvSpPr>
              <p:cNvPr id="569" name="Rectangle 99"/>
              <p:cNvSpPr/>
              <p:nvPr/>
            </p:nvSpPr>
            <p:spPr>
              <a:xfrm>
                <a:off x="3557520" y="4100760"/>
                <a:ext cx="558612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0" name="Group 100"/>
              <p:cNvGrpSpPr/>
              <p:nvPr/>
            </p:nvGrpSpPr>
            <p:grpSpPr>
              <a:xfrm>
                <a:off x="3557520" y="4100760"/>
                <a:ext cx="5586120" cy="329040"/>
                <a:chOff x="3557520" y="4100760"/>
                <a:chExt cx="5586120" cy="329040"/>
              </a:xfrm>
            </p:grpSpPr>
            <p:sp>
              <p:nvSpPr>
                <p:cNvPr id="571" name="Rectangle 101"/>
                <p:cNvSpPr/>
                <p:nvPr/>
              </p:nvSpPr>
              <p:spPr>
                <a:xfrm>
                  <a:off x="3599640" y="4100760"/>
                  <a:ext cx="550152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Rectangle 102"/>
                <p:cNvSpPr/>
                <p:nvPr/>
              </p:nvSpPr>
              <p:spPr>
                <a:xfrm>
                  <a:off x="3557520" y="4100760"/>
                  <a:ext cx="558612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3" name="Group 103"/>
            <p:cNvGrpSpPr/>
            <p:nvPr/>
          </p:nvGrpSpPr>
          <p:grpSpPr>
            <a:xfrm>
              <a:off x="1008000" y="4429800"/>
              <a:ext cx="8136000" cy="313200"/>
              <a:chOff x="1008000" y="4429800"/>
              <a:chExt cx="8136000" cy="313200"/>
            </a:xfrm>
          </p:grpSpPr>
          <p:sp>
            <p:nvSpPr>
              <p:cNvPr id="574" name="Rectangle 104"/>
              <p:cNvSpPr/>
              <p:nvPr/>
            </p:nvSpPr>
            <p:spPr>
              <a:xfrm>
                <a:off x="1049760" y="4429800"/>
                <a:ext cx="8051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                 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vegni – incontri  di formazion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Rectangle 105"/>
              <p:cNvSpPr/>
              <p:nvPr/>
            </p:nvSpPr>
            <p:spPr>
              <a:xfrm>
                <a:off x="1008000" y="4429800"/>
                <a:ext cx="8136000" cy="313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106"/>
            <p:cNvGrpSpPr/>
            <p:nvPr/>
          </p:nvGrpSpPr>
          <p:grpSpPr>
            <a:xfrm>
              <a:off x="1008000" y="4743360"/>
              <a:ext cx="3081240" cy="329040"/>
              <a:chOff x="1008000" y="4743360"/>
              <a:chExt cx="3081240" cy="329040"/>
            </a:xfrm>
          </p:grpSpPr>
          <p:sp>
            <p:nvSpPr>
              <p:cNvPr id="577" name="Rectangle 107"/>
              <p:cNvSpPr/>
              <p:nvPr/>
            </p:nvSpPr>
            <p:spPr>
              <a:xfrm>
                <a:off x="1049760" y="4743360"/>
                <a:ext cx="299736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Rectangle 108"/>
              <p:cNvSpPr/>
              <p:nvPr/>
            </p:nvSpPr>
            <p:spPr>
              <a:xfrm>
                <a:off x="1008000" y="4743360"/>
                <a:ext cx="308124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109"/>
            <p:cNvGrpSpPr/>
            <p:nvPr/>
          </p:nvGrpSpPr>
          <p:grpSpPr>
            <a:xfrm>
              <a:off x="4089240" y="4743360"/>
              <a:ext cx="5054400" cy="329040"/>
              <a:chOff x="4089240" y="4743360"/>
              <a:chExt cx="5054400" cy="329040"/>
            </a:xfrm>
          </p:grpSpPr>
          <p:sp>
            <p:nvSpPr>
              <p:cNvPr id="580" name="Rectangle 110"/>
              <p:cNvSpPr/>
              <p:nvPr/>
            </p:nvSpPr>
            <p:spPr>
              <a:xfrm>
                <a:off x="4089240" y="4743360"/>
                <a:ext cx="505440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1" name="Group 111"/>
              <p:cNvGrpSpPr/>
              <p:nvPr/>
            </p:nvGrpSpPr>
            <p:grpSpPr>
              <a:xfrm>
                <a:off x="4089240" y="4743360"/>
                <a:ext cx="5054400" cy="329040"/>
                <a:chOff x="4089240" y="4743360"/>
                <a:chExt cx="5054400" cy="329040"/>
              </a:xfrm>
            </p:grpSpPr>
            <p:sp>
              <p:nvSpPr>
                <p:cNvPr id="582" name="Rectangle 112"/>
                <p:cNvSpPr/>
                <p:nvPr/>
              </p:nvSpPr>
              <p:spPr>
                <a:xfrm>
                  <a:off x="4131360" y="4743360"/>
                  <a:ext cx="496980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Rectangle 113"/>
                <p:cNvSpPr/>
                <p:nvPr/>
              </p:nvSpPr>
              <p:spPr>
                <a:xfrm>
                  <a:off x="4089240" y="4743360"/>
                  <a:ext cx="505440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Group 114"/>
            <p:cNvGrpSpPr/>
            <p:nvPr/>
          </p:nvGrpSpPr>
          <p:grpSpPr>
            <a:xfrm>
              <a:off x="1008000" y="5072400"/>
              <a:ext cx="8136000" cy="313200"/>
              <a:chOff x="1008000" y="5072400"/>
              <a:chExt cx="8136000" cy="313200"/>
            </a:xfrm>
          </p:grpSpPr>
          <p:sp>
            <p:nvSpPr>
              <p:cNvPr id="585" name="Rectangle 115"/>
              <p:cNvSpPr/>
              <p:nvPr/>
            </p:nvSpPr>
            <p:spPr>
              <a:xfrm>
                <a:off x="1049760" y="5072400"/>
                <a:ext cx="8051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              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orso e gare matematich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Rectangle 116"/>
              <p:cNvSpPr/>
              <p:nvPr/>
            </p:nvSpPr>
            <p:spPr>
              <a:xfrm>
                <a:off x="1008000" y="5072400"/>
                <a:ext cx="8136000" cy="313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117"/>
            <p:cNvGrpSpPr/>
            <p:nvPr/>
          </p:nvGrpSpPr>
          <p:grpSpPr>
            <a:xfrm>
              <a:off x="1008000" y="5385960"/>
              <a:ext cx="3309840" cy="329040"/>
              <a:chOff x="1008000" y="5385960"/>
              <a:chExt cx="3309840" cy="329040"/>
            </a:xfrm>
          </p:grpSpPr>
          <p:sp>
            <p:nvSpPr>
              <p:cNvPr id="588" name="Rectangle 118"/>
              <p:cNvSpPr/>
              <p:nvPr/>
            </p:nvSpPr>
            <p:spPr>
              <a:xfrm>
                <a:off x="1049760" y="5385960"/>
                <a:ext cx="32256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119"/>
              <p:cNvSpPr/>
              <p:nvPr/>
            </p:nvSpPr>
            <p:spPr>
              <a:xfrm>
                <a:off x="1008000" y="5385960"/>
                <a:ext cx="330984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120"/>
            <p:cNvGrpSpPr/>
            <p:nvPr/>
          </p:nvGrpSpPr>
          <p:grpSpPr>
            <a:xfrm>
              <a:off x="4317840" y="5385960"/>
              <a:ext cx="3862440" cy="329040"/>
              <a:chOff x="4317840" y="5385960"/>
              <a:chExt cx="3862440" cy="329040"/>
            </a:xfrm>
          </p:grpSpPr>
          <p:sp>
            <p:nvSpPr>
              <p:cNvPr id="591" name="Rectangle 121"/>
              <p:cNvSpPr/>
              <p:nvPr/>
            </p:nvSpPr>
            <p:spPr>
              <a:xfrm>
                <a:off x="4317840" y="5385960"/>
                <a:ext cx="386244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22"/>
              <p:cNvGrpSpPr/>
              <p:nvPr/>
            </p:nvGrpSpPr>
            <p:grpSpPr>
              <a:xfrm>
                <a:off x="4317840" y="5385960"/>
                <a:ext cx="3862440" cy="329040"/>
                <a:chOff x="4317840" y="5385960"/>
                <a:chExt cx="3862440" cy="329040"/>
              </a:xfrm>
            </p:grpSpPr>
            <p:sp>
              <p:nvSpPr>
                <p:cNvPr id="593" name="Rectangle 123"/>
                <p:cNvSpPr/>
                <p:nvPr/>
              </p:nvSpPr>
              <p:spPr>
                <a:xfrm>
                  <a:off x="4359600" y="5385960"/>
                  <a:ext cx="377856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Rectangle 124"/>
                <p:cNvSpPr/>
                <p:nvPr/>
              </p:nvSpPr>
              <p:spPr>
                <a:xfrm>
                  <a:off x="4317840" y="5385960"/>
                  <a:ext cx="386244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5" name="Group 125"/>
            <p:cNvGrpSpPr/>
            <p:nvPr/>
          </p:nvGrpSpPr>
          <p:grpSpPr>
            <a:xfrm>
              <a:off x="8180640" y="5385960"/>
              <a:ext cx="963000" cy="329040"/>
              <a:chOff x="8180640" y="5385960"/>
              <a:chExt cx="963000" cy="329040"/>
            </a:xfrm>
          </p:grpSpPr>
          <p:sp>
            <p:nvSpPr>
              <p:cNvPr id="596" name="Rectangle 126"/>
              <p:cNvSpPr/>
              <p:nvPr/>
            </p:nvSpPr>
            <p:spPr>
              <a:xfrm>
                <a:off x="8180640" y="5385960"/>
                <a:ext cx="963000" cy="32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7" name="Group 127"/>
              <p:cNvGrpSpPr/>
              <p:nvPr/>
            </p:nvGrpSpPr>
            <p:grpSpPr>
              <a:xfrm>
                <a:off x="8180640" y="5385960"/>
                <a:ext cx="963000" cy="329040"/>
                <a:chOff x="8180640" y="5385960"/>
                <a:chExt cx="963000" cy="329040"/>
              </a:xfrm>
            </p:grpSpPr>
            <p:sp>
              <p:nvSpPr>
                <p:cNvPr id="598" name="Rectangle 128"/>
                <p:cNvSpPr/>
                <p:nvPr/>
              </p:nvSpPr>
              <p:spPr>
                <a:xfrm>
                  <a:off x="8222400" y="5385960"/>
                  <a:ext cx="878760" cy="32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29"/>
                <p:cNvSpPr/>
                <p:nvPr/>
              </p:nvSpPr>
              <p:spPr>
                <a:xfrm>
                  <a:off x="8180640" y="5385960"/>
                  <a:ext cx="96300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Group 130"/>
            <p:cNvGrpSpPr/>
            <p:nvPr/>
          </p:nvGrpSpPr>
          <p:grpSpPr>
            <a:xfrm>
              <a:off x="1008000" y="5715360"/>
              <a:ext cx="8136000" cy="313200"/>
              <a:chOff x="1008000" y="5715360"/>
              <a:chExt cx="8136000" cy="313200"/>
            </a:xfrm>
          </p:grpSpPr>
          <p:sp>
            <p:nvSpPr>
              <p:cNvPr id="601" name="Rectangle 131"/>
              <p:cNvSpPr/>
              <p:nvPr/>
            </p:nvSpPr>
            <p:spPr>
              <a:xfrm>
                <a:off x="1049760" y="5715360"/>
                <a:ext cx="8051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                                                   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rsi di eccellenza pre-universitar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132"/>
              <p:cNvSpPr/>
              <p:nvPr/>
            </p:nvSpPr>
            <p:spPr>
              <a:xfrm>
                <a:off x="1008000" y="5715360"/>
                <a:ext cx="8136000" cy="313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133"/>
            <p:cNvGrpSpPr/>
            <p:nvPr/>
          </p:nvGrpSpPr>
          <p:grpSpPr>
            <a:xfrm>
              <a:off x="1008000" y="6028920"/>
              <a:ext cx="6278760" cy="329040"/>
              <a:chOff x="1008000" y="6028920"/>
              <a:chExt cx="6278760" cy="329040"/>
            </a:xfrm>
          </p:grpSpPr>
          <p:sp>
            <p:nvSpPr>
              <p:cNvPr id="604" name="Rectangle 134"/>
              <p:cNvSpPr/>
              <p:nvPr/>
            </p:nvSpPr>
            <p:spPr>
              <a:xfrm>
                <a:off x="1049760" y="6028920"/>
                <a:ext cx="619488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135"/>
              <p:cNvSpPr/>
              <p:nvPr/>
            </p:nvSpPr>
            <p:spPr>
              <a:xfrm>
                <a:off x="1008000" y="6028920"/>
                <a:ext cx="6278760" cy="32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136"/>
            <p:cNvGrpSpPr/>
            <p:nvPr/>
          </p:nvGrpSpPr>
          <p:grpSpPr>
            <a:xfrm>
              <a:off x="7286760" y="6028920"/>
              <a:ext cx="1045440" cy="329040"/>
              <a:chOff x="7286760" y="6028920"/>
              <a:chExt cx="1045440" cy="329040"/>
            </a:xfrm>
          </p:grpSpPr>
          <p:sp>
            <p:nvSpPr>
              <p:cNvPr id="607" name="Rectangle 137"/>
              <p:cNvSpPr/>
              <p:nvPr/>
            </p:nvSpPr>
            <p:spPr>
              <a:xfrm>
                <a:off x="7286760" y="6028920"/>
                <a:ext cx="1045440" cy="329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8" name="Group 138"/>
              <p:cNvGrpSpPr/>
              <p:nvPr/>
            </p:nvGrpSpPr>
            <p:grpSpPr>
              <a:xfrm>
                <a:off x="7286760" y="6028920"/>
                <a:ext cx="1045440" cy="329040"/>
                <a:chOff x="7286760" y="6028920"/>
                <a:chExt cx="1045440" cy="329040"/>
              </a:xfrm>
            </p:grpSpPr>
            <p:sp>
              <p:nvSpPr>
                <p:cNvPr id="609" name="Rectangle 139"/>
                <p:cNvSpPr/>
                <p:nvPr/>
              </p:nvSpPr>
              <p:spPr>
                <a:xfrm>
                  <a:off x="7328880" y="6028920"/>
                  <a:ext cx="96120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140"/>
                <p:cNvSpPr/>
                <p:nvPr/>
              </p:nvSpPr>
              <p:spPr>
                <a:xfrm>
                  <a:off x="7286760" y="6028920"/>
                  <a:ext cx="1045440" cy="32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1" name="Group 141"/>
            <p:cNvGrpSpPr/>
            <p:nvPr/>
          </p:nvGrpSpPr>
          <p:grpSpPr>
            <a:xfrm>
              <a:off x="8332200" y="6028920"/>
              <a:ext cx="811440" cy="329040"/>
              <a:chOff x="8332200" y="6028920"/>
              <a:chExt cx="811440" cy="329040"/>
            </a:xfrm>
          </p:grpSpPr>
          <p:sp>
            <p:nvSpPr>
              <p:cNvPr id="612" name="Rectangle 142"/>
              <p:cNvSpPr/>
              <p:nvPr/>
            </p:nvSpPr>
            <p:spPr>
              <a:xfrm>
                <a:off x="8332200" y="6028920"/>
                <a:ext cx="811440" cy="32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3" name="Group 143"/>
              <p:cNvGrpSpPr/>
              <p:nvPr/>
            </p:nvGrpSpPr>
            <p:grpSpPr>
              <a:xfrm>
                <a:off x="8332200" y="6028920"/>
                <a:ext cx="811440" cy="329040"/>
                <a:chOff x="8332200" y="6028920"/>
                <a:chExt cx="811440" cy="329040"/>
              </a:xfrm>
            </p:grpSpPr>
            <p:sp>
              <p:nvSpPr>
                <p:cNvPr id="614" name="Rectangle 144"/>
                <p:cNvSpPr/>
                <p:nvPr/>
              </p:nvSpPr>
              <p:spPr>
                <a:xfrm>
                  <a:off x="8374320" y="6028920"/>
                  <a:ext cx="726840" cy="32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145"/>
                <p:cNvSpPr/>
                <p:nvPr/>
              </p:nvSpPr>
              <p:spPr>
                <a:xfrm>
                  <a:off x="8332200" y="6028920"/>
                  <a:ext cx="811440" cy="3290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italia1"/>
          <p:cNvPicPr/>
          <p:nvPr/>
        </p:nvPicPr>
        <p:blipFill>
          <a:blip r:embed="rId1"/>
          <a:stretch/>
        </p:blipFill>
        <p:spPr>
          <a:xfrm>
            <a:off x="2627280" y="115920"/>
            <a:ext cx="5235480" cy="6669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 rot="16200000">
            <a:off x="-952560" y="2760120"/>
            <a:ext cx="4800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TEMATICA &amp; REALTA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808360" y="620640"/>
            <a:ext cx="2124000" cy="82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stellanza Desenzano Alzano Lecco Berga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2735280" y="1881360"/>
            <a:ext cx="863640" cy="823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benga Savona Tori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5076720" y="836640"/>
            <a:ext cx="1081080" cy="82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rano Belluno Pad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4356000" y="1628640"/>
            <a:ext cx="10080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ma Lu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5400720" y="1989000"/>
            <a:ext cx="1584360" cy="823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briano Pesaro Urbino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er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5724360" y="4869000"/>
            <a:ext cx="1872000" cy="549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ri Catanzaro Lamezia Sove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27280" y="5300640"/>
            <a:ext cx="1908360" cy="1097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lermo  Giarre    Gela  Enna        Piazza Armerina Caltanisset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588000" y="115920"/>
            <a:ext cx="216072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011-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87     Laboratori                    56       Scuol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1600"/>
            </a:b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102     Docenti   </a:t>
            </a:r>
            <a:br>
              <a:rPr sz="1600"/>
            </a:b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1941  Studenti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4103640" y="3213000"/>
            <a:ext cx="755640" cy="54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tin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CasellaDiTesto 18"/>
          <p:cNvSpPr/>
          <p:nvPr/>
        </p:nvSpPr>
        <p:spPr>
          <a:xfrm>
            <a:off x="3743280" y="3824280"/>
            <a:ext cx="252108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lerno  Napoli Agropoli Boscoreale Pomigliano C.Tirren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CasellaDiTesto 19"/>
          <p:cNvSpPr/>
          <p:nvPr/>
        </p:nvSpPr>
        <p:spPr>
          <a:xfrm>
            <a:off x="6523200" y="4221000"/>
            <a:ext cx="1017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ten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CasellaDiTesto 20"/>
          <p:cNvSpPr/>
          <p:nvPr/>
        </p:nvSpPr>
        <p:spPr>
          <a:xfrm>
            <a:off x="5734080" y="2960640"/>
            <a:ext cx="1523520" cy="368280"/>
          </a:xfrm>
          <a:prstGeom prst="rect">
            <a:avLst/>
          </a:prstGeom>
          <a:solidFill>
            <a:srgbClr val="c2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ba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CasellaDiTesto 21"/>
          <p:cNvSpPr/>
          <p:nvPr/>
        </p:nvSpPr>
        <p:spPr>
          <a:xfrm>
            <a:off x="3714480" y="2023920"/>
            <a:ext cx="929160" cy="642600"/>
          </a:xfrm>
          <a:prstGeom prst="rect">
            <a:avLst/>
          </a:prstGeom>
          <a:solidFill>
            <a:srgbClr val="0d0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Pisto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ec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4356000" y="2673360"/>
            <a:ext cx="1081080" cy="54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erugia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CasellaDiTesto 18"/>
          <p:cNvSpPr/>
          <p:nvPr/>
        </p:nvSpPr>
        <p:spPr>
          <a:xfrm>
            <a:off x="6081480" y="3392640"/>
            <a:ext cx="764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CasellaDiTesto 23"/>
          <p:cNvSpPr/>
          <p:nvPr/>
        </p:nvSpPr>
        <p:spPr>
          <a:xfrm>
            <a:off x="1116000" y="5697360"/>
            <a:ext cx="1182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NITA’ LOC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posta in concreto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por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&amp;R alle UN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CALI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1008000" y="2168640"/>
            <a:ext cx="7634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eriale didattico già speriment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iattaforma moo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ontri periodici con esperti M&amp;R in visu o a distanza (c/o la sede dell’uità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ente di riferimento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greteria organizz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295280" y="177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emi proposti per I labor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1368360" y="1089000"/>
            <a:ext cx="7236000" cy="42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CORSO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rimaria - secondaria I gr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br>
              <a:rPr sz="28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Riferimenti e codici del quotidiano                          rappresentazione grafica della rea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tematici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e relazioni, Il nu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di processo:                          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Risolvere e porsi problemi, Argomentare e congettur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1368360" y="1089000"/>
            <a:ext cx="7236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CORSO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econdaria I grado - biennio II 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28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proporzionalità e linearità nella vita re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tematici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e relazioni, Il nu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di processo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Risolvere e porsi problemi, Argomentare e congettur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68360" y="1089000"/>
            <a:ext cx="7236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CORSO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econdaria II grado - I e II bien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28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ai modelli lineari a quelli non line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tematici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e relazioni, Il nu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di processo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Risolvere e porsi problemi, Argomentare e congettur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0" y="652320"/>
            <a:ext cx="45529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3636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0" y="62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1368360" y="1089000"/>
            <a:ext cx="723600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CORSO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econdaria II grado - univers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28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odelli dinamici elementari                                       (esponenziali e trigonometric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tematici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e relazioni, Il nu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uclei di processo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Risolvere e porsi problemi, Argomentare e congettur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03280" y="1989000"/>
            <a:ext cx="7021440" cy="35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Il modello matematico di un “fenomeno” del mondo reale è un processo di razionalizzazione ed astrazione che consente di analizzare il problema, descriverlo in modo oggettivo e formulare una sua “simulazione”, utilizzando un linguaggio simbolico universal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Il processo di modellizzazione  procede per fasi successive, che creano un’interazione dinamica fra mondo reale e mondo matema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2209680" y="243828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3"/>
          <p:cNvSpPr/>
          <p:nvPr/>
        </p:nvSpPr>
        <p:spPr>
          <a:xfrm rot="5360400">
            <a:off x="6731280" y="2412000"/>
            <a:ext cx="814680" cy="86652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132000" y="11592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447920" y="762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ondo re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ndo matematic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440000" y="3716280"/>
            <a:ext cx="2666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Step 1: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276720" y="1981080"/>
            <a:ext cx="2950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ep 2: CO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724360" y="3716280"/>
            <a:ext cx="295308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ep 3: SOL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imo</cp:lastModifiedBy>
  <dcterms:modified xsi:type="dcterms:W3CDTF">2013-04-13T12:57:17Z</dcterms:modified>
  <cp:revision>753</cp:revision>
  <dc:subject/>
  <dc:title>PowerPoint Presentation</dc:title>
</cp:coreProperties>
</file>